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D321-1860-4C5A-A468-BB9376AF9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9CDA-61E4-4D01-9D2E-C3D9D3E1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6411-DB82-49BB-896F-A5A0E219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53FE-F4FE-4838-9EA5-9EF5EB26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0BC9C-D5B3-4B43-ABEB-371253D4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7252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08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896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7252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08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FC2E-17E3-46AD-82FA-2CFCF904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25636-1FD1-4B4B-B706-45CDE42D4C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DF0BC-3A86-4811-BA5F-0E816C9EA2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534CA-D6CB-490F-8F75-77A7438009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31AF7-5C02-4238-A456-D1DCF1CE3B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248BD-5A43-4EE9-8239-01713B26DA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D8772-ECDE-4004-B681-095B11C3A9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02F9C-6180-42D9-B7FE-CC7C40451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0BDF-6AD2-46EE-B095-85FD4F1A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079BD-56AC-46F4-B292-B9E3F4D3BD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EAD25-DAE2-4DDA-8E9B-FEFB8BD891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0BB34-D95A-4316-B382-631C1C495D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F9DA1-12A0-4459-A9CD-FA60A28B92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7252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2608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1896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7252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2608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54E84-CF60-474B-A13C-67D2FC3944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31C1B-CB28-4F99-B893-437459CC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AAEA5-1CF3-423B-BF14-F743B454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C5797D-7587-499D-8F0D-F1E7B5F9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2D4F06-33FF-421F-B95C-2FCDF420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A9E0E-215F-4A67-ACD4-2495D04E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B6F7-E970-4698-8590-EED5B43F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896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7C44AE-817E-448C-9064-ADABEC70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083FE-01B3-49D1-B56E-86B7C8F7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7CF8F4-FABB-4DFE-8E68-7D41D8D4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F5EB20-2FB1-4797-B1AA-93BBEA19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2E8C6-5D7B-4D32-AB61-E6000D33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8F719C-1387-4310-9FA7-19CDFBE9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7252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2608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1896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7252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2608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2F193F-701A-4CD4-BEB1-944142C4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F8E1E-C7DC-474C-A7C5-C270F665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F8057D-643C-46E7-A03B-4CAF8669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66030-C27D-4AF3-9E8D-6DA5F19F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B8CE-A1C2-467B-A886-585E6EF8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D5B84E-F304-4795-9553-85A96B17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C5294-3B89-4E42-83A1-D5EAE9D0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1896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7008D4-C59A-4E1A-8B33-D944B86F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2F19E-BCB6-4340-A2F6-A45F279D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71309-ABC6-4375-9DB3-0A759BD2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67EDE7-6FD9-4C36-875C-F5D9F523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C40BC3-6003-4A10-AF37-FEE47B7C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558D58-F43E-401C-B503-F664D36F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7252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2608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21896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7252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2608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583EB-3EAB-481B-91FA-E369D9B1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F601-89BA-45D8-B305-5F32FAAA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896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2C89-CD6D-4833-80CE-E347A057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84DC-F18F-45AF-95AC-6AFDD689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F4AB-5C23-46B2-93AA-65329AB8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DDD9C-A4BD-4D58-84B7-D5CA27BD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2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2-</a:t>
            </a:r>
            <a:fld id="{ABFF2DC4-C3F7-4A60-BA59-E26EAF4ABDAD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eft_bar art"/>
          <p:cNvPicPr/>
          <p:nvPr/>
        </p:nvPicPr>
        <p:blipFill>
          <a:blip r:embed="rId2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2-</a:t>
            </a:r>
            <a:fld id="{96D1B3E5-A361-480C-85A5-4344C71C5DD8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2-</a:t>
            </a:r>
            <a:fld id="{36623963-8A4F-46CA-A5D7-0D9E120AFB4B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2-</a:t>
            </a:r>
            <a:fld id="{6873C626-1F4F-46B4-9BB6-59067EF0B95D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fasterwhois.com/" TargetMode="External"/><Relationship Id="rId2" Type="http://schemas.openxmlformats.org/officeDocument/2006/relationships/hyperlink" Target="http://www.internic.net/alpha.html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plagiarisma.net/" TargetMode="External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Chapters 2 &amp; 3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B94EA833-135F-4F2B-99D2-B68A6687483F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143000" y="2514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Technologies for e-commerce and web hosting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N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ink layer is the starting point for the network - deals with physical and medium of acc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twork layer forwards packets to their destinations - similar to usage of a courier - address of the destination and mode of routing the pack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P address layer - Each IP address has 32 bits - IP address has two parts: the networmk number and the host nu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outing helps in forwarding the packets to and from internet - Each routing has rules in the form of table which directs where a packet should be forward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D76C1800-D684-4289-BE0A-D1254F72B003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33"/>
                </a:solidFill>
                <a:latin typeface="Garamond"/>
              </a:rPr>
              <a:t>IPv4 vs IPv6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w version of IP called IPv6 and current version is IPv4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Pv4 uses 32 bit addr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 packet is transmitted by multiplicating and then sent to different loca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esults in clogging the network bandwidth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tages of the networ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Pv^6 multicast is us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ingle packet can be transmitted to multiple loca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ecurity control : IPSec has been us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C0538ACC-46BA-4555-9E20-A78BE92AC2B3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C5B03973-DB06-4FA2-89CA-FEEBEEA08ACA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Technology evolution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net is the infrastructure that links thousands of networks togeth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net owes its existence to the Pentagon and the cold wa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riginal networked sites were military installations, universities, and business firms with defense department contrac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itial goal was to design a network that would maintain the safe transition of data between military computers at select sites through redundant communication rout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07FA335F-2E04-41D4-9966-EE8831E1F4E1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Garamond"/>
              </a:rPr>
              <a:t>cont'd…</a:t>
            </a:r>
            <a:endParaRPr b="1" lang="en-US" sz="3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earchers devised a way of bundling information into packets that carried the network address of the recipi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packet is sent into a so-called network “cloud” across the vast array of computers on the networ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computer checks to see if the information belongs to any of its clients and forwards it to the next computer to which it might belo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ce claimed by the right computer, the packet is opened to reveal the mess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s message delivery system is moved by a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C2AD1FBD-1AC3-4DEB-BF4B-048AF2C7A9F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Garamond"/>
              </a:rPr>
              <a:t>cont‘d</a:t>
            </a:r>
            <a:endParaRPr b="1" lang="en-US" sz="3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848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t first, Internet traffic was government related and government subsidized:  No ordinary person or company could use the Intern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pril 1995 the U.S. government relinquished control of the Internet to independent governing bodies, which relaxed entry for almost everyone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6"/>
          <p:cNvGrpSpPr/>
          <p:nvPr/>
        </p:nvGrpSpPr>
        <p:grpSpPr>
          <a:xfrm>
            <a:off x="1600200" y="3505320"/>
            <a:ext cx="5486400" cy="3200400"/>
            <a:chOff x="1600200" y="3505320"/>
            <a:chExt cx="5486400" cy="3200400"/>
          </a:xfrm>
        </p:grpSpPr>
        <p:sp>
          <p:nvSpPr>
            <p:cNvPr id="290" name="AutoShape 16"/>
            <p:cNvSpPr/>
            <p:nvPr/>
          </p:nvSpPr>
          <p:spPr>
            <a:xfrm>
              <a:off x="1600200" y="3505320"/>
              <a:ext cx="54864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5"/>
            <p:cNvSpPr/>
            <p:nvPr/>
          </p:nvSpPr>
          <p:spPr>
            <a:xfrm>
              <a:off x="2057400" y="4762800"/>
              <a:ext cx="799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Web user/ web client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4"/>
            <p:cNvSpPr/>
            <p:nvPr/>
          </p:nvSpPr>
          <p:spPr>
            <a:xfrm>
              <a:off x="3543120" y="4762800"/>
              <a:ext cx="914400" cy="457200"/>
            </a:xfrm>
            <a:prstGeom prst="parallelogram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nternet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3"/>
            <p:cNvSpPr/>
            <p:nvPr/>
          </p:nvSpPr>
          <p:spPr>
            <a:xfrm>
              <a:off x="5029200" y="4534560"/>
              <a:ext cx="914400" cy="685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Web Application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2"/>
            <p:cNvSpPr/>
            <p:nvPr/>
          </p:nvSpPr>
          <p:spPr>
            <a:xfrm>
              <a:off x="6172200" y="4762800"/>
              <a:ext cx="571320" cy="4572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Web Server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1"/>
            <p:cNvSpPr/>
            <p:nvPr/>
          </p:nvSpPr>
          <p:spPr>
            <a:xfrm>
              <a:off x="6057720" y="5677200"/>
              <a:ext cx="685440" cy="5713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Database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6" name="AutoShape 10"/>
            <p:cNvCxnSpPr/>
            <p:nvPr/>
          </p:nvCxnSpPr>
          <p:spPr>
            <a:xfrm>
              <a:off x="2857320" y="4990680"/>
              <a:ext cx="80064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7" name="AutoShape 9"/>
            <p:cNvCxnSpPr/>
            <p:nvPr/>
          </p:nvCxnSpPr>
          <p:spPr>
            <a:xfrm flipV="1">
              <a:off x="4343400" y="4961880"/>
              <a:ext cx="68616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8" name="AutoShape 8"/>
            <p:cNvCxnSpPr/>
            <p:nvPr/>
          </p:nvCxnSpPr>
          <p:spPr>
            <a:xfrm>
              <a:off x="5943240" y="4792320"/>
              <a:ext cx="229320" cy="19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9" name="AutoShape 7"/>
            <p:cNvCxnSpPr/>
            <p:nvPr/>
          </p:nvCxnSpPr>
          <p:spPr>
            <a:xfrm flipH="1">
              <a:off x="6400440" y="5220000"/>
              <a:ext cx="576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996633"/>
                </a:solidFill>
                <a:latin typeface="Garamond"/>
              </a:rPr>
              <a:t>COPYRIGHT INFRINGEMENTS</a:t>
            </a:r>
            <a:br>
              <a:rPr sz="3200"/>
            </a:br>
            <a:endParaRPr b="1" lang="en-US" sz="32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Making infringing copies for sale or hire or selling or letting them for hire;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Permitting any place for the performance of works in public where such performance constitutes infringement of copyright;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Distributing infringing copies for the purpose of trade or to such an extent so as to affect prejudicially the interest of the owner of copyright ;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Public exhibition of infringing copies by way of trade; a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Importation of infringing cop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A484FEAC-41AD-4A73-92D7-690F60D49292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FD725F4B-9A59-4F9F-832C-AF014554C4A5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IP Address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Web site’s address includes the name of the host computer’s link the Web site resides 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host is identified by a unique host number (called an IP address) and by a name that is easier to remember than the nu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144C1ACB-8275-40FC-875C-E8DFFF9D9979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IP Address Arithmetic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 IP address consists of 32 binary digits or bits (zeros and ones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vide the 32 bits into 4 groups of 8 bits called a byte, or oct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octet represents a decimal value from 0 through 255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rite the four decimal values separated by do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91.170.64.12 - computer friendly, but not human friend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ery host on the Internet has a host nu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4A74774A-EE8F-4B6D-9101-9737FC6CE9A4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Host Naming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host </a:t>
            </a:r>
            <a:r>
              <a:rPr b="1" i="1" lang="en-US" sz="2400" spc="-1" strike="noStrike">
                <a:solidFill>
                  <a:srgbClr val="333399"/>
                </a:solidFill>
                <a:latin typeface="Arial Black"/>
              </a:rPr>
              <a:t>nam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s an Internet address consisting of text labels separated by do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ost name is people friend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ost names used instead of IP addresses or host numbe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BA209DD5-975C-4CCA-B6EB-21C0D1169BA1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Networks and Number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st number divided into two par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etwork part - 2 octe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ocal part - 2 octe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iversity of Virginia host numbe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91  .  170  .  64  .  12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etwork         local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rt             pa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ll UVa addresses begin with 191 . 170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4 identifies a subnet at UV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2 is the machine on the subn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 rot="16200000">
            <a:off x="2427840" y="3058200"/>
            <a:ext cx="66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 rot="16200000">
            <a:off x="3875760" y="3058200"/>
            <a:ext cx="66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ole of technologies in e-commerc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architectur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ypertext Transfer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pages (static and dynamic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ok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ow to design web pag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 steps required to make the design error fre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for publishing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for hosting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A2A487B8-03ED-4A1D-8DE0-31490C9F280D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61BF9609-B502-4C38-957D-81E488B40721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Networks and Siz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tworks are classified in three sizes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 A (large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 B (medium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 C (small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 D is a multicast networ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nitial bits of the IP address tells the size of the network hos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BAC8D107-C8F1-414C-84A6-82E648C4F24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IP Address Class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pic>
        <p:nvPicPr>
          <p:cNvPr id="329" name="Picture 4" descr="Table 3"/>
          <p:cNvPicPr/>
          <p:nvPr/>
        </p:nvPicPr>
        <p:blipFill>
          <a:blip r:embed="rId1"/>
          <a:stretch/>
        </p:blipFill>
        <p:spPr>
          <a:xfrm>
            <a:off x="1038240" y="2263680"/>
            <a:ext cx="81057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5926B188-BD8F-4B4B-B72E-E8CBD4D8561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Web Search Element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net contains thousands of Web sites dedicated to tens of thousands of topic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ey elements that make the search process feasible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ug-I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arch Engin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BD96774B-0000-4E66-A3BA-23EC26C5E232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The Browser </a:t>
            </a:r>
            <a:r>
              <a:rPr b="1" i="1" lang="en-US" sz="3400" spc="-1" strike="noStrike">
                <a:solidFill>
                  <a:srgbClr val="996633"/>
                </a:solidFill>
                <a:latin typeface="Garamond"/>
              </a:rPr>
              <a:t>(cont'd)</a:t>
            </a:r>
            <a:endParaRPr b="1" lang="en-US" sz="3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 browser is a piece of software that allows users to navigate the Web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tscape Navigato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crosoft Internet Explor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refox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er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D5F7D7F4-0CCE-49F5-9BF7-662E3617DA33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The Browser </a:t>
            </a:r>
            <a:r>
              <a:rPr b="1" i="1" lang="en-US" sz="3400" spc="-1" strike="noStrike">
                <a:solidFill>
                  <a:srgbClr val="996633"/>
                </a:solidFill>
                <a:latin typeface="Garamond"/>
              </a:rPr>
              <a:t>(cont'd)</a:t>
            </a:r>
            <a:endParaRPr b="1" lang="en-US" sz="3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browser is a Web client program that uses Hypertext Transfer Protocol (HTTP) to make requests of Web servers throughout the Internet on behalf of the browser us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ext-only mod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such as Lynx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Graphic mod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nvolves a graphical software program that retrieves text, audio, and vide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71F3592C-3781-4213-B975-EC0CCDFBAA5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Plug-In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oftware programs configured to a Web browser to improve its capabiliti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orking together with plug-ins, browsers today offer seamless multimedia experienc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popular plug-in on the Web is Adobe Acrobat Reade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crosoft developed software called Active X, which makes plug-ins unnecessa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is software makes it possible to embed animated objects and data on Web pag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ing a Microsoft product, Active X works best with Microsoft’s Internet Explorer browse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AC350CBF-DEE5-4A02-88CB-DE965427D723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Internet Service Provider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net service provider (ISP) is a company that links users to the Internet for a fe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rvices offered by ISP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nking consumers and businesses to the Intern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nitoring and maintaining customers’ Web sit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ing network management and system integr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ing backbone access services for other ISPs (like PSI and UUNET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ffering payment systems for online purchas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Garamond"/>
              </a:rPr>
              <a:t>Uniform Resource Locator (URL)</a:t>
            </a:r>
            <a:br>
              <a:rPr sz="4000"/>
            </a:br>
            <a:endParaRPr b="1" lang="en-US" sz="40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Used for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viding unique address for a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eneral representation of any URL :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rotocol://domain_name/directory/resource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tocol represents definition of protoco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ttp stands for hypertext transfer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ttps represent secure hypertext transfer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tp represents file transfer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elnet represents protocol for accessing a remote compu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4FCD4CFA-2515-4128-92FD-B117C8F90F4D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6633"/>
                </a:solidFill>
                <a:latin typeface="Garamond"/>
              </a:rPr>
              <a:t>Hypertext Transfer Protocol (HTTP)</a:t>
            </a:r>
            <a:br>
              <a:rPr sz="3600"/>
            </a:br>
            <a:endParaRPr b="1" lang="en-US" sz="36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TTP is used for communicating between web client and web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browser obtains the IP address of the domain through D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n web client establishes a TCP connection to port 80 of the web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ort number 80 is the default port for HTTP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esponse is specified in Multipurpose Internet Mail Extension (MIME) format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 proxy server for security and other administrative reas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09AD9CC8-3530-4406-9634-F98CA18F0C1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Cooki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TTP does not keep any information related to use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server receives a HTTP request for any information, it can be for a new client or an extended sess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ata about the users state and requests are important  - business analytics are develop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okies’ were developed by which a web server would save these data at the web cli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CC080DC5-0B55-4C5B-96AD-9CE2D9CF2E4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E-commerce technology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-commerce has three-tiered system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ree tier refers to three main component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lient side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erver side and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 connecting bridge which is known as intern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or fulfilling any order, we ne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ree tier model PL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pplier system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rehouse system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gistics system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A4373E89-EC77-4B9E-9155-5640876C8FAB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Garamond"/>
              </a:rPr>
              <a:t>Client side or web programming</a:t>
            </a:r>
            <a:endParaRPr b="1" lang="en-US" sz="40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gramming can be done in HTML, JavaScript, Java Applets, ActiveX contro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lugins can be used which are small applications that are embedded in a web page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pecial functions (such as animations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lient side programming techniques such as HTML and JavaScipt, LINKS, Images, Tables, Frames, Form, Styleshee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EE6C376D-D923-4E88-8336-4B38C326FEEF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A9EED941-A868-4BD9-AF8C-C7090CF168A7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Managerial Implication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Web has changed the way business and information technology work together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-commerce is transforming the Internet from a “browse-and-surf” environment into a mammoth information exchange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mportant thing is to keep an eye on the technologies, as they evolve, and to be familiar with the changes before taking a dive into the Internet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ategize first, test the waters, and be sure you have a unique product supported by qualified staff to follow up on the Web traffic that it attract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C77BD77C-6AB5-4C0D-8C68-0399A388B090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nternet has many uses; it also has many limita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orld Wide Web is a global hypertext network of millions of Web servers and browsers connected by hypertext transfer protocol (HTTP) and its many derivative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t is important to learn the language of the Internet before starting an e-commerce project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nternet and the Web have changed the way business and technology work together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F39B6B05-2C31-4DA1-99A0-83683910C797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hapter 3 Learning objectiv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ow to design web pag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 steps required to make the design error fre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for publishing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for hosting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14D8FA1B-ACD2-4819-9625-8A1BAA65AD4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What Is a Network?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connection between at least two computers for the purpose of sharing re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 networks are based on the concept of shar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9DC05B9A-AFAF-4EBA-A894-1685C7197207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Types of Network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eer-to-Peer Networks are the linking of several PCs so that each acts as a peer, sharing and exchanging information without the need for a centralized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ent / Server Networks are a cluster of computers (called clients) connected to one or more servers to form a networ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D835C0FC-E274-42D1-87D5-109DC4F393E2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Peer-to-Peer Network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uters are linked together as equa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centralized server or contr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 computer can share its resources with any other computer on the same network in any way and whenever it choos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ers are network administrators in that they control access to the resources residing on their own compu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n result in institutionalized chaos, and security can be a problem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8D646900-CA9E-4AE7-9A14-D5DF4C14BFF7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Peer-to-Peer Networks (</a:t>
            </a:r>
            <a:r>
              <a:rPr b="1" i="1" lang="en-US" sz="4400" spc="-1" strike="noStrike">
                <a:solidFill>
                  <a:srgbClr val="996633"/>
                </a:solidFill>
                <a:latin typeface="Garamond"/>
              </a:rPr>
              <a:t>cont'd</a:t>
            </a: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tup usually connects fewer than 10 compu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s the number of users increases, the peer-to-peer environment becomes impractica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FF048464-6692-45D2-A5FE-F64C0AC97A92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How to Pick a Domain Name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inter for picking domain nam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f you sell bricks, pick a domain name containing a word like brick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sider name length and ease of remembering the nam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hens to force search engines to see keywords in your domain nam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ke sure the domain name is easy for Web users to remember and fin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domain name should suggest the nature of your product or servic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domain name should serve as a trademark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domain name should be free of legal conflic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183BB989-F995-4450-A667-998AEEE5401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How to Register a Domain Name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eck if the domain name you propose has been take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asterWhois.com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e of the most popular and reliable registration sites is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ternic.net/alpha.htm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Contd..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Webpage ha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GUI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Back end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Combination of data and applic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Rule based protocol (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lled the Hypertext Transfer Protocol (HTTP)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84900860-B1E1-49FE-8AAD-169B7D0F759F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711E4D43-511A-4B9D-849A-C5410455E9E5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Garamond"/>
              </a:rPr>
              <a:t>Web page elements</a:t>
            </a:r>
            <a:endParaRPr b="1" lang="en-US" sz="4000" spc="-1" strike="noStrike">
              <a:solidFill>
                <a:srgbClr val="996633"/>
              </a:solidFill>
              <a:latin typeface="Garamond"/>
            </a:endParaRPr>
          </a:p>
        </p:txBody>
      </p:sp>
      <p:pic>
        <p:nvPicPr>
          <p:cNvPr id="405" name="Picture 5" descr="awad_fig03"/>
          <p:cNvPicPr/>
          <p:nvPr/>
        </p:nvPicPr>
        <p:blipFill>
          <a:blip r:embed="rId1"/>
          <a:stretch/>
        </p:blipFill>
        <p:spPr>
          <a:xfrm>
            <a:off x="1219320" y="1525680"/>
            <a:ext cx="76197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Designing web page element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browser displays ASCII text file with extensions .htm or .htm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offline web page are to be prepared firs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server and internet connection not required immediate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itially original formatting is not seen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isplay of final web page done such that laptops, desktops with different screen sizes can see all the web pag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CE035BFF-9242-433B-B63F-CD54E85D5D44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996633"/>
                </a:solidFill>
                <a:latin typeface="Garamond"/>
              </a:rPr>
              <a:t>Designing web page elements Contd..</a:t>
            </a:r>
            <a:endParaRPr b="1" lang="en-US" sz="36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our basic elements that should be presented in any web pag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TML, HEAD, TITAL and BOD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TML : This contains information that the web browser should know about the web page such as title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&lt;HEAD&gt; This information is not displayed in the browser’s web page displa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&lt;TITLE&gt; This information is displayed in the browser window’s title ba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&lt;BODY&gt; This information is displayed in the browser’s web page display (both text and graphics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2EABD8C7-EA87-4554-AC81-4851902AC186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996633"/>
                </a:solidFill>
                <a:latin typeface="Garamond"/>
              </a:rPr>
              <a:t>Web page development life cycle</a:t>
            </a:r>
            <a:endParaRPr b="1" lang="en-US" sz="36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Stages in life cycle ar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1) Prepare a file with .HTM or &gt;HTML extension and save it to your hard dis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(2) Open the file through brows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(3) Review the web page and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(4) Rework on the page using a text editor or HTML edito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ormatting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roubleshooting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ublish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stalling on a web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521BA580-3EC6-4B7E-8FB2-FFF0047B5085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Web publishing step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ode of access to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NS addr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ath Nam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Uploading the fil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ind the UR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inal Touc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2400" spc="-1" strike="noStrike">
                <a:solidFill>
                  <a:srgbClr val="333399"/>
                </a:solidFill>
                <a:latin typeface="Arial"/>
              </a:rPr>
              <a:t>{GIVE A SAMPLE OF CODE AS GIVEN IN THE TEXT}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EF4B7C8C-0804-4739-A3D1-A07A9A23699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Legal and Ethical Issu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Following considerations need to be mad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re the files being published have already been published elsewher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re the files being published are modified versions of already existing and published fil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re the materials to be published are excerpts of existing materials (already published somewhere else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re there sufficient permissions to download the materials and then publish them as min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an the pictures and figures that have been published by someone else and available in the public domain be made available by another publisher (in partial or full display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0EE072A2-83FE-43BC-9684-C5C120E5BBE3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Plagiarism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Tools can be used for checking plagiarism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Check before publish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Websites that offer plagiarism servi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www.plagiarism-detector.com,www.writecheck.com,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www.plagiarismchecker.com,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www.dustball.com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lagiarisma.net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2D6655A7-2038-42C7-BC56-E6DE1064053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Copyright Issu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Copyright is a right given by the law to creators of literary, dramatic, musical and artistic works and producers of cinematograph films and sound recording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Copyright ensures certain minimum safeguards of the rights of author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Some of the exemptions are the uses of the work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for the purpose of research or private study,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for criticism or review,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for reporting current events,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in connection with judicial proceeding,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performance by an amateur club or society if the performance is given to a non-paying audience, and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the making of sound recordings of literary, dramatic or musical works under certain condition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079FC2C2-E98A-42E8-AF09-701642BBBEDB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Terms used in copyrigh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Work : </a:t>
            </a: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A work means a literary, dramatic, musical or artistic work, a cinematograph film, or a sound recordin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work of joint authorship: </a:t>
            </a: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work produced by the collaboration of two or more author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What is an artistic work :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333399"/>
                </a:solidFill>
                <a:latin typeface="Arial"/>
              </a:rPr>
              <a:t>a painting, a sculpture, a drawing (including a diagram, map, chart or plan), an engraving or a photograph, whether or not any such work possesses artistic quality;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333399"/>
                </a:solidFill>
                <a:latin typeface="Arial"/>
              </a:rPr>
              <a:t>a work of architecture; an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333399"/>
                </a:solidFill>
                <a:latin typeface="Arial"/>
              </a:rPr>
              <a:t>any other work of artistic craftsmanship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musical work: </a:t>
            </a:r>
            <a:r>
              <a:rPr b="1" lang="en-IN" sz="1600" spc="-1" strike="noStrike">
                <a:solidFill>
                  <a:srgbClr val="333399"/>
                </a:solidFill>
                <a:latin typeface="Arial"/>
              </a:rPr>
              <a:t>work consisting of music and includes any graphical notation of such work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sound recording: </a:t>
            </a:r>
            <a:r>
              <a:rPr b="1" lang="en-IN" sz="1400" spc="-1" strike="noStrike">
                <a:solidFill>
                  <a:srgbClr val="333399"/>
                </a:solidFill>
                <a:latin typeface="Arial"/>
              </a:rPr>
              <a:t>recording of sounds from which sounds may be produced regardless of the medium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095A1D74-7C21-44FA-B246-BECD4D5745D7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Terms used in copyright..contd..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cinematograph film; work of visual recording on any medium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government work: work which is made or published by or under the direction or control of the government or any department of the governm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E1057431-11D0-40F6-B112-61447E0EE022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Architecture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ternet is a combination several network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tworks are connected through route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se routers are connected through Internet Service Providers (ISP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ransfer information through packe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ternet is on layered model - Transmission Control Protocol/ Internet Protocol (TCP/IP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BA389074-2E03-4FA8-B5AA-81C488744DFB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Terms used in copyright..contd..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MORAL RIGHTS: the right to claim authorship of the work and to restrain or claim damages in respect of any modific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The moral rights are independent of the author’s copyright and remains with him even after assignment of the copyrigh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Failure to display a work or to display it to the satisfaction of the author shall not be deemed to be an infringement of the moral rights of the autho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4E01D5D0-DDF9-4D09-B779-E4D037327B55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F2F2263C-5059-4044-BCE8-7C84DB82A996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E-Commerce Issu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nancial Exposur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P Exposur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gal Securit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cket Sniff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rewal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PSec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rusion Detection Systems (IDS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316B3833-9096-4CB9-9504-06908A9C1255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o communicate over a line, you need a modem, which converts incoming analog signals into digital signals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Several factors need to be considered in designing a network:  location, capacity, distance limitations, cost, potential growth, and security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Web page publication should follow proper steps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Plagiarism check should be done (using tools)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Copyright issues and moral issues should be taken care of while publishing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Network diagram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B0A725C4-8116-4CE4-BDB6-2E5B41D37741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295280" y="1752480"/>
            <a:ext cx="7010640" cy="4206960"/>
            <a:chOff x="1295280" y="1752480"/>
            <a:chExt cx="7010640" cy="4206960"/>
          </a:xfrm>
        </p:grpSpPr>
        <p:sp>
          <p:nvSpPr>
            <p:cNvPr id="203" name="AutoShape 24"/>
            <p:cNvSpPr/>
            <p:nvPr/>
          </p:nvSpPr>
          <p:spPr>
            <a:xfrm>
              <a:off x="1295280" y="1752480"/>
              <a:ext cx="7010640" cy="4206960"/>
            </a:xfrm>
            <a:prstGeom prst="octagon">
              <a:avLst>
                <a:gd name="adj" fmla="val 292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>
              <a:off x="2180160" y="2596680"/>
              <a:ext cx="2003760" cy="664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no.1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2"/>
            <p:cNvSpPr/>
            <p:nvPr/>
          </p:nvSpPr>
          <p:spPr>
            <a:xfrm>
              <a:off x="4183920" y="4018680"/>
              <a:ext cx="2003760" cy="663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nternet Service Provid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1"/>
            <p:cNvSpPr/>
            <p:nvPr/>
          </p:nvSpPr>
          <p:spPr>
            <a:xfrm>
              <a:off x="5210280" y="2725200"/>
              <a:ext cx="2002680" cy="663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no.2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4733280" y="5124960"/>
              <a:ext cx="2003760" cy="664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No.3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9"/>
            <p:cNvSpPr/>
            <p:nvPr/>
          </p:nvSpPr>
          <p:spPr>
            <a:xfrm>
              <a:off x="1623240" y="4111200"/>
              <a:ext cx="1535400" cy="663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Modem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ADSL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Dedicated Connection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3299040" y="3389400"/>
              <a:ext cx="501120" cy="5122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7"/>
            <p:cNvSpPr/>
            <p:nvPr/>
          </p:nvSpPr>
          <p:spPr>
            <a:xfrm>
              <a:off x="6455520" y="3505320"/>
              <a:ext cx="501120" cy="5130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AutoShape 16"/>
            <p:cNvCxnSpPr/>
            <p:nvPr/>
          </p:nvCxnSpPr>
          <p:spPr>
            <a:xfrm flipH="1">
              <a:off x="2391120" y="3260520"/>
              <a:ext cx="791280" cy="85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2" name="AutoShape 15"/>
            <p:cNvCxnSpPr/>
            <p:nvPr/>
          </p:nvCxnSpPr>
          <p:spPr>
            <a:xfrm flipH="1" flipV="1">
              <a:off x="2391120" y="4775400"/>
              <a:ext cx="2342160" cy="68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3" name="AutoShape 14"/>
            <p:cNvCxnSpPr/>
            <p:nvPr/>
          </p:nvCxnSpPr>
          <p:spPr>
            <a:xfrm flipH="1" flipV="1">
              <a:off x="2391120" y="4775040"/>
              <a:ext cx="14824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" name="AutoShape 13"/>
            <p:cNvCxnSpPr/>
            <p:nvPr/>
          </p:nvCxnSpPr>
          <p:spPr>
            <a:xfrm>
              <a:off x="3727440" y="3826440"/>
              <a:ext cx="4572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5" name="AutoShape 12"/>
            <p:cNvCxnSpPr/>
            <p:nvPr/>
          </p:nvCxnSpPr>
          <p:spPr>
            <a:xfrm flipH="1">
              <a:off x="2391120" y="3056760"/>
              <a:ext cx="4822560" cy="105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6" name="AutoShape 11"/>
            <p:cNvCxnSpPr/>
            <p:nvPr/>
          </p:nvCxnSpPr>
          <p:spPr>
            <a:xfrm flipV="1">
              <a:off x="3181680" y="3900960"/>
              <a:ext cx="392040" cy="54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7" name="AutoShape 10"/>
            <p:cNvCxnSpPr/>
            <p:nvPr/>
          </p:nvCxnSpPr>
          <p:spPr>
            <a:xfrm flipH="1" flipV="1" rot="5400000">
              <a:off x="4219920" y="2112480"/>
              <a:ext cx="833040" cy="4492440"/>
            </a:xfrm>
            <a:prstGeom prst="bentConnector3">
              <a:avLst>
                <a:gd name="adj1" fmla="val -33506"/>
              </a:avLst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8" name="AutoShape 9"/>
            <p:cNvCxnSpPr/>
            <p:nvPr/>
          </p:nvCxnSpPr>
          <p:spPr>
            <a:xfrm flipH="1">
              <a:off x="6187680" y="3942360"/>
              <a:ext cx="342000" cy="40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sp>
          <p:nvSpPr>
            <p:cNvPr id="219" name="AutoShape 8"/>
            <p:cNvSpPr/>
            <p:nvPr/>
          </p:nvSpPr>
          <p:spPr>
            <a:xfrm>
              <a:off x="3454920" y="5276880"/>
              <a:ext cx="501120" cy="5122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AutoShape 7"/>
            <p:cNvCxnSpPr/>
            <p:nvPr/>
          </p:nvCxnSpPr>
          <p:spPr>
            <a:xfrm flipH="1" rot="16200000">
              <a:off x="2543040" y="4622400"/>
              <a:ext cx="758160" cy="1063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AutoShape 6"/>
            <p:cNvCxnSpPr/>
            <p:nvPr/>
          </p:nvCxnSpPr>
          <p:spPr>
            <a:xfrm flipV="1">
              <a:off x="3956400" y="4350600"/>
              <a:ext cx="228240" cy="118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sp>
          <p:nvSpPr>
            <p:cNvPr id="222" name="AutoShape 5"/>
            <p:cNvSpPr/>
            <p:nvPr/>
          </p:nvSpPr>
          <p:spPr>
            <a:xfrm>
              <a:off x="7586280" y="4711680"/>
              <a:ext cx="501120" cy="4888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"/>
            <p:cNvSpPr/>
            <p:nvPr/>
          </p:nvSpPr>
          <p:spPr>
            <a:xfrm>
              <a:off x="7365240" y="5276880"/>
              <a:ext cx="940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33"/>
                </a:solidFill>
                <a:latin typeface="Garamond"/>
              </a:rPr>
              <a:t>TCP/IP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95280" y="12189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ransmission Control Protocol/ Internet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of transferring packets from one computer to another compu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edium intern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se layers are connected through different rules and definitions in four laye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twork layer 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network layer helps in forwarding packets to different layers depending on the address on the packet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ransport Layer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forwarding takes place through transport layer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pplication Layer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supports transport of each and every application across network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nd Link Layer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Links between laye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0F41D2A9-5D60-4043-835A-42FE402C9201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TCP/IP Diagram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9914D70C-A110-42F2-9080-C897118E2FEB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"/>
          <p:cNvGrpSpPr/>
          <p:nvPr/>
        </p:nvGrpSpPr>
        <p:grpSpPr>
          <a:xfrm>
            <a:off x="1371600" y="1676520"/>
            <a:ext cx="6553080" cy="4706640"/>
            <a:chOff x="1371600" y="1676520"/>
            <a:chExt cx="6553080" cy="4706640"/>
          </a:xfrm>
        </p:grpSpPr>
        <p:sp>
          <p:nvSpPr>
            <p:cNvPr id="232" name="AutoShape 19"/>
            <p:cNvSpPr/>
            <p:nvPr/>
          </p:nvSpPr>
          <p:spPr>
            <a:xfrm>
              <a:off x="1371600" y="1676520"/>
              <a:ext cx="6553080" cy="47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1763280" y="2124360"/>
              <a:ext cx="1916640" cy="5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Application Lay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7"/>
            <p:cNvSpPr/>
            <p:nvPr/>
          </p:nvSpPr>
          <p:spPr>
            <a:xfrm>
              <a:off x="4987800" y="2189880"/>
              <a:ext cx="1959480" cy="63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TCP Lay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6"/>
            <p:cNvSpPr/>
            <p:nvPr/>
          </p:nvSpPr>
          <p:spPr>
            <a:xfrm>
              <a:off x="5128560" y="4379040"/>
              <a:ext cx="1818720" cy="81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P Lay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5"/>
            <p:cNvSpPr/>
            <p:nvPr/>
          </p:nvSpPr>
          <p:spPr>
            <a:xfrm>
              <a:off x="1948680" y="4379040"/>
              <a:ext cx="10670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Link Lay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7" name="AutoShape 14"/>
            <p:cNvCxnSpPr/>
            <p:nvPr/>
          </p:nvCxnSpPr>
          <p:spPr>
            <a:xfrm>
              <a:off x="3680280" y="2413440"/>
              <a:ext cx="1308240" cy="9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8" name="AutoShape 13"/>
            <p:cNvSpPr/>
            <p:nvPr/>
          </p:nvSpPr>
          <p:spPr>
            <a:xfrm>
              <a:off x="3919680" y="2265840"/>
              <a:ext cx="817200" cy="424800"/>
            </a:xfrm>
            <a:prstGeom prst="borderCallout1">
              <a:avLst>
                <a:gd name="adj1" fmla="val 18750"/>
                <a:gd name="adj2" fmla="val -8333"/>
                <a:gd name="adj3" fmla="val 20513"/>
                <a:gd name="adj4" fmla="val -106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arries Application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12"/>
            <p:cNvSpPr/>
            <p:nvPr/>
          </p:nvSpPr>
          <p:spPr>
            <a:xfrm>
              <a:off x="6272280" y="3322440"/>
              <a:ext cx="1045440" cy="653400"/>
            </a:xfrm>
            <a:prstGeom prst="borderCallout1">
              <a:avLst>
                <a:gd name="adj1" fmla="val 18750"/>
                <a:gd name="adj2" fmla="val -8333"/>
                <a:gd name="adj3" fmla="val -13333"/>
                <a:gd name="adj4" fmla="val -2395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arries Application, and TCP detail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AutoShape 11"/>
            <p:cNvCxnSpPr/>
            <p:nvPr/>
          </p:nvCxnSpPr>
          <p:spPr>
            <a:xfrm>
              <a:off x="5967720" y="2821320"/>
              <a:ext cx="70920" cy="155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AutoShape 10"/>
            <p:cNvSpPr/>
            <p:nvPr/>
          </p:nvSpPr>
          <p:spPr>
            <a:xfrm>
              <a:off x="2232000" y="5381280"/>
              <a:ext cx="1045440" cy="52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3400" y="5400"/>
                  </a:moveTo>
                  <a:lnTo>
                    <a:pt x="42525" y="5400"/>
                  </a:lnTo>
                  <a:lnTo>
                    <a:pt x="42525" y="5400"/>
                  </a:lnTo>
                  <a:lnTo>
                    <a:pt x="42525" y="-2415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arries Application, TCP details, and IP details</a:t>
              </a:r>
              <a:endParaRPr b="0" i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AutoShape 9"/>
            <p:cNvCxnSpPr/>
            <p:nvPr/>
          </p:nvCxnSpPr>
          <p:spPr>
            <a:xfrm flipH="1" flipV="1">
              <a:off x="3015720" y="4759920"/>
              <a:ext cx="2113200" cy="2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AutoShape 8"/>
            <p:cNvSpPr/>
            <p:nvPr/>
          </p:nvSpPr>
          <p:spPr>
            <a:xfrm>
              <a:off x="1534680" y="2995920"/>
              <a:ext cx="696960" cy="69696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START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7"/>
            <p:cNvSpPr/>
            <p:nvPr/>
          </p:nvSpPr>
          <p:spPr>
            <a:xfrm>
              <a:off x="2580120" y="3213720"/>
              <a:ext cx="696960" cy="69696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END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3767400" y="3061080"/>
              <a:ext cx="903600" cy="980280"/>
            </a:xfrm>
            <a:prstGeom prst="borderCallout1">
              <a:avLst>
                <a:gd name="adj1" fmla="val 18750"/>
                <a:gd name="adj2" fmla="val -8333"/>
                <a:gd name="adj3" fmla="val -8888"/>
                <a:gd name="adj4" fmla="val -855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arries Application, TCP details, IP details and Link detail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AutoShape 5"/>
            <p:cNvCxnSpPr/>
            <p:nvPr/>
          </p:nvCxnSpPr>
          <p:spPr>
            <a:xfrm flipV="1">
              <a:off x="2482200" y="3910320"/>
              <a:ext cx="447120" cy="46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AutoShape 4"/>
            <p:cNvCxnSpPr/>
            <p:nvPr/>
          </p:nvCxnSpPr>
          <p:spPr>
            <a:xfrm flipV="1">
              <a:off x="1882800" y="2701440"/>
              <a:ext cx="839160" cy="294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8" name="AutoShape 3"/>
            <p:cNvSpPr/>
            <p:nvPr/>
          </p:nvSpPr>
          <p:spPr>
            <a:xfrm>
              <a:off x="6947640" y="5533560"/>
              <a:ext cx="500760" cy="3700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"/>
            <p:cNvSpPr/>
            <p:nvPr/>
          </p:nvSpPr>
          <p:spPr>
            <a:xfrm>
              <a:off x="6947640" y="6001920"/>
              <a:ext cx="631440" cy="2178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Routing connection for packet transmission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3FA16F6D-4BB5-4DC6-A44B-2735A2255E88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"/>
          <p:cNvGrpSpPr/>
          <p:nvPr/>
        </p:nvGrpSpPr>
        <p:grpSpPr>
          <a:xfrm>
            <a:off x="1371600" y="1828800"/>
            <a:ext cx="6629400" cy="3978360"/>
            <a:chOff x="1371600" y="1828800"/>
            <a:chExt cx="6629400" cy="3978360"/>
          </a:xfrm>
        </p:grpSpPr>
        <p:sp>
          <p:nvSpPr>
            <p:cNvPr id="255" name="AutoShape 14"/>
            <p:cNvSpPr/>
            <p:nvPr/>
          </p:nvSpPr>
          <p:spPr>
            <a:xfrm>
              <a:off x="1371600" y="1828800"/>
              <a:ext cx="6629400" cy="39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3"/>
            <p:cNvSpPr/>
            <p:nvPr/>
          </p:nvSpPr>
          <p:spPr>
            <a:xfrm>
              <a:off x="3001320" y="3029760"/>
              <a:ext cx="848160" cy="7041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 1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>
              <a:off x="4037040" y="3866400"/>
              <a:ext cx="826920" cy="7041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 3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1"/>
            <p:cNvSpPr/>
            <p:nvPr/>
          </p:nvSpPr>
          <p:spPr>
            <a:xfrm>
              <a:off x="4863960" y="3128040"/>
              <a:ext cx="936360" cy="7048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 2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0"/>
            <p:cNvSpPr/>
            <p:nvPr/>
          </p:nvSpPr>
          <p:spPr>
            <a:xfrm>
              <a:off x="2054520" y="2301840"/>
              <a:ext cx="148716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1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9"/>
            <p:cNvSpPr/>
            <p:nvPr/>
          </p:nvSpPr>
          <p:spPr>
            <a:xfrm>
              <a:off x="5613120" y="2368440"/>
              <a:ext cx="141012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2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8"/>
            <p:cNvSpPr/>
            <p:nvPr/>
          </p:nvSpPr>
          <p:spPr>
            <a:xfrm>
              <a:off x="3542040" y="4935960"/>
              <a:ext cx="1883880" cy="3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3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AutoShape 7"/>
            <p:cNvCxnSpPr/>
            <p:nvPr/>
          </p:nvCxnSpPr>
          <p:spPr>
            <a:xfrm>
              <a:off x="2798280" y="2809080"/>
              <a:ext cx="327240" cy="32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AutoShape 6"/>
            <p:cNvCxnSpPr/>
            <p:nvPr/>
          </p:nvCxnSpPr>
          <p:spPr>
            <a:xfrm flipV="1">
              <a:off x="3849120" y="3231360"/>
              <a:ext cx="1152360" cy="1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4" name="AutoShape 5"/>
            <p:cNvCxnSpPr/>
            <p:nvPr/>
          </p:nvCxnSpPr>
          <p:spPr>
            <a:xfrm flipV="1">
              <a:off x="5662800" y="2808720"/>
              <a:ext cx="655560" cy="42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5" name="AutoShape 4"/>
            <p:cNvCxnSpPr/>
            <p:nvPr/>
          </p:nvCxnSpPr>
          <p:spPr>
            <a:xfrm>
              <a:off x="3725280" y="3631320"/>
              <a:ext cx="433080" cy="33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6" name="AutoShape 3"/>
            <p:cNvCxnSpPr/>
            <p:nvPr/>
          </p:nvCxnSpPr>
          <p:spPr>
            <a:xfrm flipV="1">
              <a:off x="4743000" y="3728880"/>
              <a:ext cx="259200" cy="24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7" name="AutoShape 2"/>
            <p:cNvCxnSpPr/>
            <p:nvPr/>
          </p:nvCxnSpPr>
          <p:spPr>
            <a:xfrm>
              <a:off x="4450320" y="4570920"/>
              <a:ext cx="3420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2-28T06:59:38Z</dcterms:modified>
  <cp:revision>270</cp:revision>
  <dc:subject>Awad 3rd ed</dc:subject>
  <dc:title>The World Wide We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